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892-5D87-428B-B247-A051605E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FA9-5953-4646-955D-411E8961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199-9E64-4832-8A56-0AD98443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552-50CE-456A-B00E-6C54820E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7EB-ADA4-4F0B-B2B0-D69EB1C9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4F7-FA71-4924-96CD-D6F5340B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BD1-42C6-45ED-B6AD-DB6BB54E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9F0-937E-4B58-BD14-5A2B44B2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437-4DDD-4580-9916-23BA8507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C6B-606D-405D-A0F3-A3CE4DDF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FAA-1792-4BED-BA9F-1103EBC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078-88F7-4832-BACC-1F54183A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D846-CB2E-49EB-8B73-878BA7AFD380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n und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pitel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organische Reaktionstypen   Tei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Säuren und Sal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sphorsäure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14740" b="14650"/>
          <a:stretch/>
        </p:blipFill>
        <p:spPr>
          <a:xfrm>
            <a:off x="3419640" y="2637000"/>
            <a:ext cx="572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Bas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-Hydroxid, Natronlauge, Ätznatro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505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-Hydroxid, Kalilauge, Ätzk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3505" t="0" r="15646" b="0"/>
          <a:stretch/>
        </p:blipFill>
        <p:spPr>
          <a:xfrm>
            <a:off x="4572000" y="1312920"/>
            <a:ext cx="44276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-Hydroxid, gelöschter Kalk, Kalkwasser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46197" t="0" r="0" b="0"/>
          <a:stretch/>
        </p:blipFill>
        <p:spPr>
          <a:xfrm>
            <a:off x="3419640" y="1344600"/>
            <a:ext cx="5724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mmoniumhydroxid, Salmiakgeist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32360" y="3030480"/>
            <a:ext cx="4140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tstehung der 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Au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Nichtmetalloxid und Wasser entstehen die meisten anorganischen Sä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844640"/>
            <a:ext cx="360360" cy="71640"/>
          </a:xfrm>
          <a:prstGeom prst="rightArrow">
            <a:avLst>
              <a:gd name="adj1" fmla="val 50000"/>
              <a:gd name="adj2" fmla="val 125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673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tstehung der 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Organische Säuren enthalten die Carboxyl-Gruppe –COOH. Sie entstehen durch Oxidation von Alkoh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59463" t="0" r="0" b="0"/>
          <a:stretch/>
        </p:blipFill>
        <p:spPr>
          <a:xfrm>
            <a:off x="4932360" y="1268280"/>
            <a:ext cx="3295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tstehung der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O+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 Ca(OH)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Viele Metalloxide bilden mit Wasser Hydroxide. Die Hydroxide sind starke Basen. Sie werden auch als Laugen bezeich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ganische Basen sind häufig stickstoffhal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1844640"/>
            <a:ext cx="504720" cy="71640"/>
          </a:xfrm>
          <a:prstGeom prst="rightArrow">
            <a:avLst>
              <a:gd name="adj1" fmla="val 50000"/>
              <a:gd name="adj2" fmla="val 176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-Basen-Reakt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Bei allen SB-Reaktionen werden Protonen verscho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äuren bilden in Wasser Hydronium-Ionen H</a:t>
            </a:r>
            <a:r>
              <a:rPr b="0" lang="de-DE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Basen bilden in Wasser Hydroxid-Ionen OH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Ion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jeder SB-Reaktion sind Säure-Base-Paare betei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-Basen-Pa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Cl +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 Cl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Säure  +  Bas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         Base +    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Cl gibt ein Proton ab =    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nimmt ein Proton auf  =  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immt ein Proton auf  =   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gibt ein Proton ab  =    Säure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177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98728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10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nd Stoffe die sauer schme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en in Wasser Protonen ab (18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en Protonen ab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ind Protonendonat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73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mphotere Sto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offe die sowohl als Säure als auch als Base reagieren können nennt man amph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: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+ OH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se   Säure   Säure   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Wasser ist der wichtigste amphotere S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3357720"/>
            <a:ext cx="431640" cy="71280"/>
          </a:xfrm>
          <a:prstGeom prst="rightArrow">
            <a:avLst>
              <a:gd name="adj1" fmla="val 50000"/>
              <a:gd name="adj2" fmla="val 151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3500280"/>
            <a:ext cx="358920" cy="73080"/>
          </a:xfrm>
          <a:prstGeom prst="leftArrow">
            <a:avLst>
              <a:gd name="adj1" fmla="val 50000"/>
              <a:gd name="adj2" fmla="val 122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Autoprotolyse des Was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  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die Ursache für die extrem kleine elektrische Leitfähigkeit des Was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 reinem Wasser ist die Konzentration der H</a:t>
            </a:r>
            <a:r>
              <a:rPr b="0" lang="de-DE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Ionen gleich groß wie die  Konzentration der OH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-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  Ionen und hat den Wert          10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-7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1700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1916280"/>
            <a:ext cx="649440" cy="72720"/>
          </a:xfrm>
          <a:prstGeom prst="leftArrow">
            <a:avLst>
              <a:gd name="adj1" fmla="val 50000"/>
              <a:gd name="adj2" fmla="val 2232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der negative dekadische Logarithmus der Hydronium-Ionenkonz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gibt Auskunft über die Konzentration der H</a:t>
            </a:r>
            <a:r>
              <a:rPr b="0" lang="de-DE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ist der negative dekadische Logarithmus der H</a:t>
            </a:r>
            <a:r>
              <a:rPr b="0" lang="de-DE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-Ionen Konz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bedeut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arithmus = Hoch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kadisch = Basis der Potenz is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v = Vorzeichenwech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= 10</a:t>
            </a:r>
            <a:r>
              <a:rPr b="0" lang="de-DE" sz="2800" spc="-1" strike="noStrike" baseline="30000">
                <a:solidFill>
                  <a:srgbClr val="ff0000"/>
                </a:solidFill>
                <a:latin typeface="Arial"/>
              </a:rPr>
              <a:t>-7</a:t>
            </a:r>
            <a:r>
              <a:rPr b="0" lang="de-DE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mol/l              pH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4797360"/>
            <a:ext cx="1008000" cy="144360"/>
          </a:xfrm>
          <a:prstGeom prst="rightArrow">
            <a:avLst>
              <a:gd name="adj1" fmla="val 50000"/>
              <a:gd name="adj2" fmla="val 174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71640" y="4508640"/>
                <a:ext cx="1017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9644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träg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 reinem Wass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 sauren Lösungen kleiner al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 basischen Lösungen größer al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nn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Werte zwischen 0 und 14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n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d kleiner, wenn die Konzentration der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– Ionen größer w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für viele chemische und biologische Prozesse von großer Bedeu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essung des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dikator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=Farbstoffe, die bei einem bestimmten pH-Wert ihre Farbe änd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Universalindikatore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=Indikatorgemis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88000" y="324972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essung des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kontinuierliche Prozessüberwachung durch Glaselektro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=Leitfähigkeitsmess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sentlich genauer als mit Universalindik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aucht Fach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1280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wendung der pH-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chemischen Proz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wachung der Gewässer (z.B. Fischzuchten, Badeteiche, Swimmingpools, Schwimmbäder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wachung des Bodens (Anbauoptimierung, Schadenbegrenzung,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12000" y="3726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nd ätzen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rrodieren Oberfläch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entstehen aus Nichtmetalloxiden und W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73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wendung der pH-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der Medizin z. B. bei Infusionslös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820960"/>
            <a:ext cx="4048200" cy="335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bilden mit unedlen Metallen Wasserstoffgas und Sal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17812" b="0"/>
          <a:stretch/>
        </p:blipFill>
        <p:spPr>
          <a:xfrm>
            <a:off x="4500720" y="1844640"/>
            <a:ext cx="46432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ifiger Griff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ätzen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entstehen meist aus Metalloxiden und W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27766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907920"/>
            <a:ext cx="424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en in Wasser OH- -Ionen ab (1884)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hmen Protonen auf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Protonenakzept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81680" y="836640"/>
            <a:ext cx="4162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Säuren und Sal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wefelsäure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lzsäure HCl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sigsäure C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ze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5991" t="2158" r="5953" b="13167"/>
          <a:stretch/>
        </p:blipFill>
        <p:spPr>
          <a:xfrm>
            <a:off x="2484360" y="1268280"/>
            <a:ext cx="424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Säuren und Sal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hlensäure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42000" y="1413000"/>
            <a:ext cx="3735360" cy="5203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0" b="73689"/>
          <a:stretch/>
        </p:blipFill>
        <p:spPr>
          <a:xfrm>
            <a:off x="395280" y="4941720"/>
            <a:ext cx="5616720" cy="12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Säuren und Sal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lpetersäure HN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92400" y="1341360"/>
            <a:ext cx="4586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08:24:32Z</dcterms:created>
  <dc:creator>*</dc:creator>
  <dc:description/>
  <dc:language>en-US</dc:language>
  <cp:lastModifiedBy>*</cp:lastModifiedBy>
  <dcterms:modified xsi:type="dcterms:W3CDTF">2009-01-05T08:24:53Z</dcterms:modified>
  <cp:revision>1</cp:revision>
  <dc:subject/>
  <dc:title>Säuren und Basen</dc:title>
</cp:coreProperties>
</file>