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8F5-58E2-4EDD-81F2-8C06A979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407-2B97-4DB0-8048-C859D04A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9CA-228D-407B-95BC-FD4BB2C4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7F9-F517-482D-8BA0-F302B0DC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907-5DE5-4679-8305-12526552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E2C-C1CF-4855-926B-8D873007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31A-9963-47EE-8AC8-07851A0E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C24-CF2A-4774-AE16-BC098BED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864-0AA7-4EDE-98D1-44B00E83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814-8839-424D-8E23-57B025A2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A14-F729-4966-89F1-CAF8C9EB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50D-BE64-45C5-9E93-6D42BF80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A82A-0319-4F44-BCBF-93F2D4BA5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boutnuclear.org/i/the_atom/helium-anim.gif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pwt.de/Intradio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sitiv geladene He-Ker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egativ geladene Elektron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hne Ladu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iereic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ktro-magnetische Strah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044800"/>
            <a:ext cx="42480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che Wirk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 wirksam wird nur der Anteil der in den Körper eingefallenen Strahlung, der mit dem Organismus unter Erzeugung von Ionenpaaren bzw. Energieabgabe in Wechselwirkung trit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18841" r="33986" b="35255"/>
          <a:stretch/>
        </p:blipFill>
        <p:spPr>
          <a:xfrm>
            <a:off x="1908000" y="4094280"/>
            <a:ext cx="52930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>
            <a:lum contrast="6000"/>
          </a:blip>
          <a:srcRect l="38992" t="39021" r="40023" b="39994"/>
          <a:stretch/>
        </p:blipFill>
        <p:spPr>
          <a:xfrm>
            <a:off x="6372360" y="177336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elium-Kerne, Teilchenmasse 4 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weifach positiv gela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chweite in Luft: einige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irmung: Blatt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e Gefahr: sehr hoch, durch Aufnahme mit Nahrung und Atemluft, radioaktiver „fallout“ nach Bombenexplosionen, Unfä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7648" b="60925"/>
          <a:stretch/>
        </p:blipFill>
        <p:spPr>
          <a:xfrm>
            <a:off x="6227640" y="1197000"/>
            <a:ext cx="2484720" cy="4464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ektronen, Teilchenmasse  ca. 0,002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fach negativ ge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chweite in Luft: einige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schwindigkeit: 90%Lichtgeschwi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irmung: Buch 5 cm d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e Gefahr: „fallout“, Faktor 20 geringer als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Strah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>
            <a:lum contrast="12000"/>
          </a:blip>
          <a:srcRect l="11020" t="22520" r="14989" b="3040"/>
          <a:stretch/>
        </p:blipFill>
        <p:spPr>
          <a:xfrm>
            <a:off x="6227640" y="2060640"/>
            <a:ext cx="2664000" cy="2376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-Magnetische Strahlung, sehr energie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htgeschwi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ef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chweite in Luft: mehrere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chirmung: 20 cm Blei, 1 m B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che Gefahr: Fernwirkung bei Atomexplos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ßeinh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ktivitä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eschreibt den Zerfall radioaktiver Atomkerne  (Radionuklide);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Ionen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Energie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Äquivalent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sagen etwas über die Wirkung ionisierender Strahlung in Materie a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76720" y="1197000"/>
            <a:ext cx="541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e bestimmte Menge radioaktiver Atome besitzt die </a:t>
            </a:r>
            <a:r>
              <a:rPr b="0" lang="de-DE" sz="3200" spc="-1" strike="noStrike">
                <a:solidFill>
                  <a:srgbClr val="ff3300"/>
                </a:solidFill>
                <a:latin typeface="Arial"/>
              </a:rPr>
              <a:t>Aktivität von 1 Bequerel (Bq)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wenn pro sec genau ein Kern zerfällt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te Einheit: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i (Curie) = 3,7x10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q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Bq = 2,7x10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8862" r="49986" b="31319"/>
          <a:stretch/>
        </p:blipFill>
        <p:spPr>
          <a:xfrm>
            <a:off x="0" y="3573360"/>
            <a:ext cx="3276720" cy="227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5247" t="5691" r="3960" b="7560"/>
          <a:stretch/>
        </p:blipFill>
        <p:spPr>
          <a:xfrm>
            <a:off x="0" y="476280"/>
            <a:ext cx="3276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u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er Zerfall ist mit der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mission ionisierender Strahl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unden. Diese kann mit einem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eigerzäh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messen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5606" t="10828" r="0" b="0"/>
          <a:stretch/>
        </p:blipFill>
        <p:spPr>
          <a:xfrm>
            <a:off x="3924360" y="3103560"/>
            <a:ext cx="52196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che Gefa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efährlichke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ines radioaktiven Stoffes wird neben der  Aktivität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on der Art der ausgesandten Strahlu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nd seiner Lebensdauer 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albwertsze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bestimm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2096" t="7658" r="17100" b="43703"/>
          <a:stretch/>
        </p:blipFill>
        <p:spPr>
          <a:xfrm>
            <a:off x="250920" y="2349360"/>
            <a:ext cx="2376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2:41:19Z</dcterms:created>
  <dc:creator>Schermann</dc:creator>
  <dc:description/>
  <dc:language>en-US</dc:language>
  <cp:lastModifiedBy>Ihr Benutzername</cp:lastModifiedBy>
  <dcterms:modified xsi:type="dcterms:W3CDTF">2006-10-03T17:16:06Z</dcterms:modified>
  <cp:revision>7</cp:revision>
  <dc:subject/>
  <dc:title>Radioaktivität</dc:title>
</cp:coreProperties>
</file>