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EE7-637C-4A55-B551-3EE24BDD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D7B-B5C9-42CE-8222-392B07E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E6E-C5B3-46BB-AF0F-E07920EB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75A-C916-4DC0-A70B-B2EDBA79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762-F43E-4DD6-BB30-65F680E7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687-30CE-496B-AB1F-C0ACAF4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FDE-F3A4-41A4-8309-B828649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C56-6451-44C8-BDE7-58D984FE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E4B-1456-4E9F-BF88-05043B5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CEE-BE13-45E2-9223-88F9A4F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62B-B347-4470-8DC4-046DA9D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AD6-481A-4639-9E4E-9431FB78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C37D-0202-4C04-B2E2-5935A7052D60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765000"/>
            <a:ext cx="7005960" cy="1068840"/>
          </a:xfrm>
          <a:prstGeom prst="rect">
            <a:avLst/>
          </a:prstGeom>
          <a:solidFill>
            <a:srgbClr val="0000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ie nennt man das Ergebnis einer Multipl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3213000"/>
            <a:ext cx="2736720" cy="45972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Su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3284640"/>
            <a:ext cx="29527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437000"/>
            <a:ext cx="2880000" cy="734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Produk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4508640"/>
            <a:ext cx="288144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Diffe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692280"/>
            <a:ext cx="676944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odurch ist ein Kreis festgeleg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357720"/>
            <a:ext cx="30974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: Radi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357720"/>
            <a:ext cx="2808360" cy="70344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Rad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013360"/>
            <a:ext cx="288144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Radi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5084640"/>
            <a:ext cx="280836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Ra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11. Wieviele Nullen hat eine Milliar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92360" y="2205000"/>
            <a:ext cx="1940040" cy="503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32000" y="2205000"/>
            <a:ext cx="1954080" cy="57456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3933720"/>
            <a:ext cx="1728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4005360"/>
            <a:ext cx="1944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ie nennt man die Zahl 6 in dieser Rechnung?    24:6 =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492280"/>
            <a:ext cx="29509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Divid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492280"/>
            <a:ext cx="280836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Quot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508640"/>
            <a:ext cx="28796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Produ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4508640"/>
            <a:ext cx="324180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Divi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13.  Wieviel kg sind 7595 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492280"/>
            <a:ext cx="33130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 0,7595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2492280"/>
            <a:ext cx="309564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7kg 595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24280"/>
            <a:ext cx="31687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75,95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4724280"/>
            <a:ext cx="3024360" cy="70344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7595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:  Welche Figur hat 4 gleich lange Sei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637000"/>
            <a:ext cx="302400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Quad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2708280"/>
            <a:ext cx="31672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Recht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869000"/>
            <a:ext cx="30970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Drei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9040" y="4869000"/>
            <a:ext cx="438084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Parallel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: Welche Farbe hat der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0 Euro sch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492280"/>
            <a:ext cx="3313080" cy="223992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dunkel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un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781360"/>
            <a:ext cx="259236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r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4724280"/>
            <a:ext cx="3097080" cy="1630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den gi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n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9440" y="5013360"/>
            <a:ext cx="1422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765000"/>
            <a:ext cx="7272360" cy="1312920"/>
          </a:xfrm>
          <a:prstGeom prst="rect">
            <a:avLst/>
          </a:prstGeom>
          <a:solidFill>
            <a:srgbClr val="0000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as ist keine Grundrechnungs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852640"/>
            <a:ext cx="287964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924280"/>
            <a:ext cx="38149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jug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076640"/>
            <a:ext cx="360036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Divid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4076640"/>
            <a:ext cx="417492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Subtrah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692280"/>
            <a:ext cx="7200720" cy="1312920"/>
          </a:xfrm>
          <a:prstGeom prst="rect">
            <a:avLst/>
          </a:prstGeom>
          <a:solidFill>
            <a:srgbClr val="00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elche Zahl ist die folgende: C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573360"/>
            <a:ext cx="331128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3645000"/>
            <a:ext cx="25192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1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229360"/>
            <a:ext cx="302400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5300640"/>
            <a:ext cx="324000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das ist keine Zah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692280"/>
            <a:ext cx="597708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4. Wieviele Kanten hat ein Würfe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3213000"/>
            <a:ext cx="19447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3213000"/>
            <a:ext cx="29512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724280"/>
            <a:ext cx="20894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4869000"/>
            <a:ext cx="324000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836640"/>
            <a:ext cx="741672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5. Wieviele Sekunden                                                           hat 1 Stu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3141720"/>
            <a:ext cx="3168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141720"/>
            <a:ext cx="316872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013360"/>
            <a:ext cx="33847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3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4941720"/>
            <a:ext cx="345600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gar k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08000" y="1197000"/>
            <a:ext cx="88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836640"/>
            <a:ext cx="676728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ie lautet die Regel richt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213000"/>
            <a:ext cx="3600360" cy="131292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Punkt vor Str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213000"/>
            <a:ext cx="316872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Strich vor Pun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300640"/>
            <a:ext cx="345600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5229360"/>
            <a:ext cx="37450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Strichpun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765000"/>
            <a:ext cx="7704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as heißt die Abkürzung: SM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852640"/>
            <a:ext cx="302436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: Short master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2781360"/>
            <a:ext cx="439272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B: Short message   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013360"/>
            <a:ext cx="302400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Sag mal Serv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5013360"/>
            <a:ext cx="381636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D: Salve mater sal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620640"/>
            <a:ext cx="6553440" cy="223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Was ist das doppelte 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älfte von 17?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492280"/>
            <a:ext cx="35272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2492280"/>
            <a:ext cx="38894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941720"/>
            <a:ext cx="338436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9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5620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4941720"/>
            <a:ext cx="35272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1052640"/>
            <a:ext cx="78487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Darf man durch Null dividie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284640"/>
            <a:ext cx="309744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3284640"/>
            <a:ext cx="33112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N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941720"/>
            <a:ext cx="338436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Vielle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5157720"/>
            <a:ext cx="2879640" cy="10688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Nur bei Sonnensch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5:22:51Z</dcterms:created>
  <dc:creator>Johann Painold</dc:creator>
  <dc:description/>
  <dc:language>en-US</dc:language>
  <cp:lastModifiedBy>Johann Painold</cp:lastModifiedBy>
  <dcterms:modified xsi:type="dcterms:W3CDTF">2007-05-17T21:01:37Z</dcterms:modified>
  <cp:revision>19</cp:revision>
  <dc:subject/>
  <dc:title>Folie 1</dc:title>
</cp:coreProperties>
</file>